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75A-24AA-4FB6-ABAB-0852C98D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431-0423-4F92-A7FF-406DF45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A73-5313-4312-8C3D-B60D5116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316-7CA0-410B-B8C7-A16BA0DB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B10C-B93F-4785-A09B-2C243A29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D4B6-CA20-48A0-845C-B052B044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439-E41E-4EFF-A1DD-97F97121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2ECC-E8EF-4FFB-AF7D-754E89D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D34-267C-44A0-9AC2-C74C81A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C82D-6618-4E11-AC54-241FDD4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E96D-808E-4FFF-9777-D499F7E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D8E-C35A-4849-9FFE-40E7372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3EB-F79E-45CB-A3BB-37F06F5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1168-9957-4AEE-8224-2958550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B832-5C45-4881-8440-403EF53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4B69-E055-43EB-931C-2A09F643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6089-7F2C-4B4E-8003-36F64088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6634-CB9A-4408-AFC8-128CDF73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B1C0-9EFF-49B8-89A9-9ACD96A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45E3-4424-4C02-B6DD-777AD4A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687C-DFA4-4ABB-8BE2-7D99A6EA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567C-F2A7-477A-8648-35FD40C9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1B1-AECC-4BDA-BD32-2D8F950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FB68-0BC8-4A88-8154-0BA5DC9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BF4E-AEF5-47A9-95A1-2D92ED5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2A46-7EA6-44B9-A0A1-4BCCCD0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9A5D-E0F9-4FB0-A5E1-845B31D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A01C-8257-41AD-B4A6-8D3B618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B5D6-2426-4C8F-990C-9FA6CE51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CE8E-8CE3-47E0-B824-A0423D98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DE7F-FEB2-4797-A59D-55409A45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3BE7-DBA6-4C5E-B2E8-C03EDB3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5052-3AA4-479A-84A5-3664482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7A5-6E88-46EE-8861-742A5F1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293E-96E9-403C-AB47-E8449AD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6971-EF40-41F9-BF48-ED3E7ECD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190D-02CB-4570-991A-9BB571BD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810C-FC66-4D5E-B416-3C1405A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6F96-3DB3-42CF-8BFE-E9D30C5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7215-BC4D-45D3-88C8-8E93140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1533-821B-4076-A882-520B5DAD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24AC-5765-494D-BBDF-63CC11D2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4C8A-13A8-4F20-86BF-2BFA5FBF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7654-BB51-4F57-8C7E-F01FCEB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910-6F7A-41B3-BD02-F0C4FFA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3C50C-9ED6-4B31-B40C-07CB565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5C90-4724-4B79-AA05-A8C9E72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7520-07D1-4868-98E3-8C88991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E188-C39F-491B-8470-8DFF24B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3FB2-E27A-4B34-B066-535E1787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2CAA-A9FC-46C1-8378-6ABFE10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57D6-5651-404E-AEF9-7891FBC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4EB3-AFB3-4481-868C-C1D9FB4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D861-C982-4B6E-B46D-7EDF4E59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6E42-ECB0-4564-B031-3E4F1E83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BD9-461B-4795-9DF1-5EA5CE4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27D2-38A2-4FFC-9E19-94394CF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2408-D32E-4CDF-8102-85A27958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A920-2E00-4E73-BD31-0A91ACD7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DDE9-98A2-440A-A8A0-8A89D00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EB22-DC20-437E-89F1-A539EFD6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A48C-179C-487B-9698-E1F56B35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C6A4-E81E-4CBA-A4B5-AFFEA0E3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CC764-178C-480C-BA2D-B874BA38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1B53-FEDF-4A0A-9C17-D03077F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1D1A-1234-4E2E-8435-71AAEB3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23C-0419-4E2E-8EEC-45995A6B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D5A3-AE75-4D7A-81FD-179AA21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23BC-108C-4F78-A8D5-00F117E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8C39-2EF8-4261-B6C1-58D495B8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F068-56E1-4E8A-BDE2-AF5C6BD7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8FE99-2D50-4908-86AE-B7BA5009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0720-57A5-43E0-B377-96991D6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D6DF4-4663-4549-BB3D-4835969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EFF03-410D-4AB2-ACAD-7DC32AC2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B3BD-C90B-4159-B036-01DC2EA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572BD-13FE-4785-85A7-761621C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904-4571-4984-B357-211C8D0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CF42-16C0-474B-B729-6DF55D3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4C88-7782-44B5-ABE6-7DE6BFE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FED1-F84C-4FB6-B864-5F46786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AE78-BDFF-4EC9-9832-0FDB862D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0CF7-00BD-4D21-9130-D5B3F90E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85D-C392-4FA1-A00D-AF98CDE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E6A-66B8-4059-9063-EDF1B77049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19F4-481A-438D-B203-632AE3031F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B7C-F95C-46FE-BF15-D9A2980ECF2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DA5-11DA-416B-B6C1-808C6CD4AB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25CE-8881-4424-92CC-502A7456E6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CC7F-FE1E-4D8F-96EE-4BFC03A2AD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013-846C-46CD-8250-53383E2E71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sources for Meeting Internet Safety Require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7407360" cy="3733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eryl Ellio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mes Madison Univer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ill Johns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Virginia Beach City Public Scho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Educational Technology Leadership Confer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December 5, 200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5" descr="http://www.vascan.org/images/VASCAN_logo_in-between.gif"/>
          <p:cNvPicPr/>
          <p:nvPr/>
        </p:nvPicPr>
        <p:blipFill>
          <a:blip r:embed="rId2"/>
          <a:stretch/>
        </p:blipFill>
        <p:spPr>
          <a:xfrm>
            <a:off x="6248520" y="1828800"/>
            <a:ext cx="2314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nefits Realiz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aves security program development time and improves qua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duces security training cos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elps avoid costs, e.g. security inciden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akes positive statement about quality of IT security within education sec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uilds relationshi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 to the VACAN Si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6" name="Picture 2" descr="James Madison University"/>
          <p:cNvPicPr/>
          <p:nvPr/>
        </p:nvPicPr>
        <p:blipFill>
          <a:blip r:embed="rId2"/>
          <a:stretch/>
        </p:blipFill>
        <p:spPr>
          <a:xfrm>
            <a:off x="6477120" y="1219320"/>
            <a:ext cx="2368440" cy="1066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George Mason University"/>
          <p:cNvPicPr/>
          <p:nvPr/>
        </p:nvPicPr>
        <p:blipFill>
          <a:blip r:embed="rId3"/>
          <a:stretch/>
        </p:blipFill>
        <p:spPr>
          <a:xfrm>
            <a:off x="2133720" y="4419720"/>
            <a:ext cx="1704960" cy="1066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University of Virginia"/>
          <p:cNvPicPr/>
          <p:nvPr/>
        </p:nvPicPr>
        <p:blipFill>
          <a:blip r:embed="rId4"/>
          <a:stretch/>
        </p:blipFill>
        <p:spPr>
          <a:xfrm>
            <a:off x="914400" y="1219320"/>
            <a:ext cx="3467160" cy="695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Virginia Commonwealth University"/>
          <p:cNvPicPr/>
          <p:nvPr/>
        </p:nvPicPr>
        <p:blipFill>
          <a:blip r:embed="rId5"/>
          <a:stretch/>
        </p:blipFill>
        <p:spPr>
          <a:xfrm>
            <a:off x="1447920" y="594360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http://www.vbschools.com/images/header_graphics/header01.jpg"/>
          <p:cNvPicPr/>
          <p:nvPr/>
        </p:nvPicPr>
        <p:blipFill>
          <a:blip r:embed="rId6"/>
          <a:stretch/>
        </p:blipFill>
        <p:spPr>
          <a:xfrm rot="20019000">
            <a:off x="976320" y="2766600"/>
            <a:ext cx="4008600" cy="533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Stylized &quot;VT&quot; logo"/>
          <p:cNvPicPr/>
          <p:nvPr/>
        </p:nvPicPr>
        <p:blipFill>
          <a:blip r:embed="rId7"/>
          <a:stretch/>
        </p:blipFill>
        <p:spPr>
          <a:xfrm>
            <a:off x="6629400" y="4572000"/>
            <a:ext cx="1333440" cy="638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http://www.vascan.org/images/VASCAN_logo_in-between.gif"/>
          <p:cNvPicPr/>
          <p:nvPr/>
        </p:nvPicPr>
        <p:blipFill>
          <a:blip r:embed="rId8"/>
          <a:stretch/>
        </p:blipFill>
        <p:spPr>
          <a:xfrm>
            <a:off x="4495680" y="2819520"/>
            <a:ext cx="2314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happens on the Web, stays on the Web…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Text Placeholder 8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4008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I Go to UVA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6" name="when-I-go-to-UVA-lg.wmv" descr=""/>
          <p:cNvPicPr/>
          <p:nvPr/>
        </p:nvPicPr>
        <p:blipFill>
          <a:blip r:embed="rId2"/>
          <a:stretch/>
        </p:blipFill>
        <p:spPr>
          <a:xfrm>
            <a:off x="1447920" y="116208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sources for Meeting Internet Safety Requirem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Cheryl Elliott, James Madison Univers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elliotcj@cisat.jmu.ed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Bill Johnsen, Virginia Beach City Public Sch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Presentation can be found 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http://vtlc2007.wikispaces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5" descr="http://www.vascan.org/images/VASCAN_logo_in-between.gif"/>
          <p:cNvPicPr/>
          <p:nvPr/>
        </p:nvPicPr>
        <p:blipFill>
          <a:blip r:embed="rId2"/>
          <a:stretch/>
        </p:blipFill>
        <p:spPr>
          <a:xfrm>
            <a:off x="6553080" y="5257800"/>
            <a:ext cx="2314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ducational Technology Plan for Virgini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2 – Ensure sufficient support for ongoing, reliable network oper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4 – Ensure that school divisions have in place network security, filtering, and disaster recovery pla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ducational Ap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2 – Promote and develop Web-based applications, services, and resources (online tes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net Safety Guideli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chool Divisions Must Addr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and network security pl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cedures to address breaches of Internet security and protect students’ safe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rginia Alliance for Secure Computing and Networking (VASCAN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213372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perative IT security efforts were already underway among four Higher Education instit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vernor Mark Warner charged higher education to help meet IT goals of the Commonweal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er Education CIO Council developed plan in respon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MU and GMU cybersecurity research centers’ charge to assist State in meeting security go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SCAN Purpo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engthen security programs across Virginia higher education by integrating and making available field-proven tools, best practices, and people from VA SCAN partner institutions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tablish links to security research, instruction, and federal/state government initiatives to enhance security opportun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rter Memb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actitioner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ames Madison Uni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ginia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search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a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itute for Infrastructure and Information Assurance (JMU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nter for Secure Information Systems (GMU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itical Infrastructure Protection Project (GMU/JMU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mbership Chan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anded to include IT auditor participation and development of IT auditing resourc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October 200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ginia Commonwealth University joined allianc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February 2006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ginia Beach City Public Schools joined allianc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March 2007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Oval 2"/>
          <p:cNvSpPr/>
          <p:nvPr/>
        </p:nvSpPr>
        <p:spPr>
          <a:xfrm>
            <a:off x="2895480" y="2286000"/>
            <a:ext cx="2116080" cy="2176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olicy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"/>
          <p:cNvSpPr/>
          <p:nvPr/>
        </p:nvSpPr>
        <p:spPr>
          <a:xfrm>
            <a:off x="3792600" y="3538440"/>
            <a:ext cx="2116080" cy="217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4818240" y="2286000"/>
            <a:ext cx="2116080" cy="21765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553080" y="1447920"/>
            <a:ext cx="19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s must be built to technically adhere to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6095880" y="41148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must understand their responsibilities regarding polic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914400" y="137160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cies must be developed, communicated, maintained and e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838080" y="3962520"/>
            <a:ext cx="238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develope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w how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762120" y="304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2314"/>
                </a:solidFill>
                <a:latin typeface="Gill Sans MT"/>
              </a:rPr>
              <a:t>VA SCAN Foc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Offering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ull service website http://vascan.or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k the Expert” email servi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–site engagemen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nual conference and SANS workshop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5:08:19Z</dcterms:created>
  <dc:creator>wjohnsen</dc:creator>
  <dc:description/>
  <dc:language>en-US</dc:language>
  <cp:lastModifiedBy>Bill Johnsen</cp:lastModifiedBy>
  <dcterms:modified xsi:type="dcterms:W3CDTF">2007-12-04T03:10:19Z</dcterms:modified>
  <cp:revision>19</cp:revision>
  <dc:subject/>
  <dc:title>Resources for Meeting Internet Safety Requirements</dc:title>
</cp:coreProperties>
</file>