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D485-5C97-409E-A2F8-87986F88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D53-B862-482A-AB6F-0B21E686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3495-A229-4506-B001-F8ED08F1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EC3E-4217-4BA2-B6E3-37FE0EF7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BE46-36A8-4CB1-B7DC-122B48E5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128E-2F7E-4825-ABDA-323C376A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9FB8-E711-49DD-9636-F899DAC7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D22F-BB69-4FE8-990B-3B431757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0EEA-141F-4F27-80EC-64511515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8027-952A-4E69-9D3E-BD3A752A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667F-FE69-458A-BD6D-66D0C8E0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8FE-5331-43A1-96C1-9DA61DC6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1CDD-0F73-4541-8978-E25D450F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E19F-7C09-4EA7-8F41-6507C744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8E65-F060-49DF-8437-A1F31AAC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38AC-992D-46AF-80DC-D5C38D4C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B1E1-EB55-41E4-B494-2F22C3F6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832C5-9000-4763-8559-C7CDDE80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54453-A12C-4C65-A51D-9757B9DA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56BEB-A50D-495E-977B-79F2D8A6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9516A-2922-4845-968B-32DC66F6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115D4-783A-4F51-AD5E-0BD9924D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01F-D3C3-49EF-BE62-045E0153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66E4A-A1E1-4918-8F5F-EACD0767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CC374-111A-4F82-9004-585D589A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B7C78-AD71-4A41-8CC3-029DB375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ACECE-F887-404F-AAA0-015E3E5C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90C8A-94B9-41D7-AFB9-1780006A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5664D-4C81-459F-8DD5-5F2A2206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71498-11D0-427C-A8F4-2A6E0656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F6052-EB70-4AFB-81A9-FD22BDBD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5EAD0-29D9-4FA3-85DF-94888C11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1F599-B2A3-459C-BFFE-E3AD3CFB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A8A-41A1-4A23-AFD5-A54FD09E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48EED-749B-4531-94A3-6A0FCEF0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2D01E-40E4-4808-8814-54A749DA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A9748-DF28-494D-8E96-D40BF151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70853-AC2A-4C7F-9103-04CF8E94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C1025-BF25-4CC0-B420-B6CAFE8A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F88D5-6A6F-4896-8DD5-4153727D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E9E6B-F69D-4268-BDD3-B2FABB0E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73146-CB6B-46A2-A4C3-FEA29759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55EE7-787F-4378-9061-E31E178F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D403C-4589-47E4-BB1C-40ED44EA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E93C-8CEC-4715-A967-5FED0696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CF85D-E942-47A4-A250-EDF3BEAD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459C4-CB69-4E84-9074-E15649DC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07754-549C-4C0E-9ABC-3086AE8D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D75EE-5CD1-44FE-8EB8-9AF6760F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CA858-1469-4D2D-AFB6-0257C107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877EF-4C56-4495-94E9-C21395E6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E166A-ACAB-425E-8C2D-395D5CD8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76281-3F8E-4182-9AE9-DBB141CF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FB8C1-BCB2-4800-B22B-5B855306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2E2C7-7792-4F3E-83C0-06C92BD5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02EC-7CB4-4C44-98FB-04FC83BE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A7F10-398A-4E59-867F-5710A444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FB406-558F-4AB2-8625-13993CD6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99A82-B4E1-4446-8D5C-47954077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4BA7C-E31A-4CEB-9263-4F6AF99D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06C40-FCD9-4FA6-B50A-4BCB27D9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12AE7-5869-4277-9544-6B4D395F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9DE7C-B462-41F5-B91C-D519A764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4015B-692C-49F8-8B9E-809534CB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9B5BE-7C37-4B36-82B9-E56A7B3E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877F4-4555-4AD9-9FB7-C1829578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8C51-FE38-43CF-AD89-3920FB0C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8DA44-BF6E-45BC-A2CF-5D59090C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5CE4B-4F85-41C3-AEE2-3CF7D9A3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87502-4868-4159-A75B-5D10BE00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FE706-0893-4D38-8E3B-35BF8AD2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CE3A3-D39E-4F3D-8223-8310B604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F3FA9-8274-4B17-9B5D-AF4AE44D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054FC-6293-4B9E-9E5E-CCFA2226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6BA28-5B90-44CD-B377-8E0D8EAF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C5D28-27AA-48CD-8D76-21ACBFB7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33B21-5E01-4977-ABDC-54994222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EEA-F592-452E-8761-0BB1EEBE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3A7A5-34FB-4F76-B689-84BA62AE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94860-1C36-462D-BB6A-FBF7471E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73832-7E55-4471-B41D-661A9558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ADBD8-9F4E-4B8E-8211-2DDC6049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A3EF3-D6C5-4B9E-B051-ED4E6616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32C-A3A5-44DB-B222-EFF7FFA7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66A0-9FEC-4EAB-A006-1532F456A29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A5AD-B753-4D95-B008-1C6E6A8B2D1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3D47-EF22-4DD1-A546-EEC5737E0F2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D659-E1C7-4B1F-B16C-6C92ACFB8B5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8ADA-E4C8-4949-85C6-E6542EC494D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3038-E069-4D19-AB54-C2E4A373C6B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ACA8-8EDF-42EC-BC9A-0B8CC2253B7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sources for Meeting Internet Safety Requiremen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7407360" cy="3733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Cheryl Elliot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ames Madison Univers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Bill Johns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Virginia Beach City Public Scho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Educational Technology Leadership Confere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December 5, 200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5" descr="http://www.vascan.org/images/VASCAN_logo_in-between.gif"/>
          <p:cNvPicPr/>
          <p:nvPr/>
        </p:nvPicPr>
        <p:blipFill>
          <a:blip r:embed="rId2"/>
          <a:stretch/>
        </p:blipFill>
        <p:spPr>
          <a:xfrm>
            <a:off x="6248520" y="1828800"/>
            <a:ext cx="2314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enefits Realiz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20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Saves security program development time and improves qual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20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Reduces security training cost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20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Helps avoid costs, e.g. security incident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20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Makes positive statement about quality of IT security within education sect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20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Builds relationship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n to the VACAN Sit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6" name="Picture 2" descr="James Madison University"/>
          <p:cNvPicPr/>
          <p:nvPr/>
        </p:nvPicPr>
        <p:blipFill>
          <a:blip r:embed="rId2"/>
          <a:stretch/>
        </p:blipFill>
        <p:spPr>
          <a:xfrm>
            <a:off x="6477120" y="1219320"/>
            <a:ext cx="2368440" cy="10666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George Mason University"/>
          <p:cNvPicPr/>
          <p:nvPr/>
        </p:nvPicPr>
        <p:blipFill>
          <a:blip r:embed="rId3"/>
          <a:stretch/>
        </p:blipFill>
        <p:spPr>
          <a:xfrm>
            <a:off x="2133720" y="4419720"/>
            <a:ext cx="1704960" cy="1066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University of Virginia"/>
          <p:cNvPicPr/>
          <p:nvPr/>
        </p:nvPicPr>
        <p:blipFill>
          <a:blip r:embed="rId4"/>
          <a:stretch/>
        </p:blipFill>
        <p:spPr>
          <a:xfrm>
            <a:off x="914400" y="1219320"/>
            <a:ext cx="3467160" cy="695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Virginia Commonwealth University"/>
          <p:cNvPicPr/>
          <p:nvPr/>
        </p:nvPicPr>
        <p:blipFill>
          <a:blip r:embed="rId5"/>
          <a:stretch/>
        </p:blipFill>
        <p:spPr>
          <a:xfrm>
            <a:off x="1447920" y="5943600"/>
            <a:ext cx="7238880" cy="6094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2" descr="http://www.vbschools.com/images/header_graphics/header01.jpg"/>
          <p:cNvPicPr/>
          <p:nvPr/>
        </p:nvPicPr>
        <p:blipFill>
          <a:blip r:embed="rId6"/>
          <a:stretch/>
        </p:blipFill>
        <p:spPr>
          <a:xfrm rot="20019000">
            <a:off x="976320" y="2766600"/>
            <a:ext cx="4008600" cy="5335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4" descr="Stylized &quot;VT&quot; logo"/>
          <p:cNvPicPr/>
          <p:nvPr/>
        </p:nvPicPr>
        <p:blipFill>
          <a:blip r:embed="rId7"/>
          <a:stretch/>
        </p:blipFill>
        <p:spPr>
          <a:xfrm>
            <a:off x="6629400" y="4572000"/>
            <a:ext cx="1333440" cy="6382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6" descr="http://www.vascan.org/images/VASCAN_logo_in-between.gif"/>
          <p:cNvPicPr/>
          <p:nvPr/>
        </p:nvPicPr>
        <p:blipFill>
          <a:blip r:embed="rId8"/>
          <a:stretch/>
        </p:blipFill>
        <p:spPr>
          <a:xfrm>
            <a:off x="4495680" y="2819520"/>
            <a:ext cx="23148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What happens on the Web, stays on the Web…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4" name="Text Placeholder 8" descr=""/>
          <p:cNvPicPr/>
          <p:nvPr/>
        </p:nvPicPr>
        <p:blipFill>
          <a:blip r:embed="rId2"/>
          <a:stretch/>
        </p:blipFill>
        <p:spPr>
          <a:xfrm>
            <a:off x="1905120" y="1371600"/>
            <a:ext cx="640080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en I Go to UVA…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6" name="when-I-go-to-UVA-lg.wmv" descr=""/>
          <p:cNvPicPr/>
          <p:nvPr/>
        </p:nvPicPr>
        <p:blipFill>
          <a:blip r:embed="rId2"/>
          <a:stretch/>
        </p:blipFill>
        <p:spPr>
          <a:xfrm>
            <a:off x="1447920" y="1162080"/>
            <a:ext cx="7162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sources for Meeting Internet Safety Requirement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e21"/>
                </a:solidFill>
                <a:latin typeface="Gill Sans MT"/>
              </a:rPr>
              <a:t>Cheryl Elliott, James Madison Univers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elliotcj@cisat.jmu.ed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e21"/>
                </a:solidFill>
                <a:latin typeface="Gill Sans MT"/>
              </a:rPr>
              <a:t>Bill Johnsen, Virginia Beach City Public Schoo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William.Johnsen@VBSchools.c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e21"/>
                </a:solidFill>
                <a:latin typeface="Gill Sans MT"/>
              </a:rPr>
              <a:t>Presentation can be found 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e21"/>
                </a:solidFill>
                <a:latin typeface="Gill Sans MT"/>
              </a:rPr>
              <a:t>http://vtlc2007.wikispaces.com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5" descr="http://www.vascan.org/images/VASCAN_logo_in-between.gif"/>
          <p:cNvPicPr/>
          <p:nvPr/>
        </p:nvPicPr>
        <p:blipFill>
          <a:blip r:embed="rId2"/>
          <a:stretch/>
        </p:blipFill>
        <p:spPr>
          <a:xfrm>
            <a:off x="6553080" y="5257800"/>
            <a:ext cx="23148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ducational Technology Plan for Virgini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nectiv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al 2 – Ensure sufficient support for ongoing, reliable network operation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al 4 – Ensure that school divisions have in place network security, filtering, and disaster recovery plan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ducational Applic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al 2 – Promote and develop Web-based applications, services, and resources (online test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ernet Safety Guideli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School Divisions Must Addr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ta and network security pla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cedures to address breaches of Internet security and protect students’ safe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irginia Alliance for Secure Computing and Networking (VASCAN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2133720"/>
            <a:ext cx="749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operative IT security efforts were already underway among four Higher Education institu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vernor Mark Warner charged higher education to help meet IT goals of the Commonweal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er Education CIO Council developed plan in respon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JMU and GMU cybersecurity research centers’ charge to assist State in meeting security goa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ASCAN Purpo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rengthen security programs across Virginia higher education by integrating and making available field-proven tools, best practices, and people from VA SCAN partner institutions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stablish links to security research, instruction, and federal/state government initiatives to enhance security opportunit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arter Membe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urity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ractitioners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orge Mason Univers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James Madison Univers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iversity of Virgin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rginia Te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urity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search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a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itute for Infrastructure and Information Assurance (JMU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enter for Secure Information Systems (GMU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itical Infrastructure Protection Project (GMU/JMU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embership Chang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20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panded to include IT auditor participation and development of IT auditing resources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(October 200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20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irginia Commonwealth University joined alliance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(February 2006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20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irginia Beach City Public Schools joined alliance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(March 2007)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Oval 2"/>
          <p:cNvSpPr/>
          <p:nvPr/>
        </p:nvSpPr>
        <p:spPr>
          <a:xfrm>
            <a:off x="2895480" y="2286000"/>
            <a:ext cx="2116080" cy="2176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Times New Roman"/>
                <a:ea typeface="Arial"/>
              </a:rPr>
              <a:t>Policy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Times New Roman"/>
                <a:ea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"/>
          <p:cNvSpPr/>
          <p:nvPr/>
        </p:nvSpPr>
        <p:spPr>
          <a:xfrm>
            <a:off x="3792600" y="3538440"/>
            <a:ext cx="2116080" cy="217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Times New Roman"/>
                <a:ea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4"/>
          <p:cNvSpPr/>
          <p:nvPr/>
        </p:nvSpPr>
        <p:spPr>
          <a:xfrm>
            <a:off x="4818240" y="2286000"/>
            <a:ext cx="2116080" cy="21765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Times New Roman"/>
                <a:ea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6553080" y="1447920"/>
            <a:ext cx="19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stems must be built to technically adhere to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6095880" y="411480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ople must understand their responsibilities regarding polic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914400" y="1371600"/>
            <a:ext cx="22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cies must be developed, communicated, maintained and enfor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838080" y="3962520"/>
            <a:ext cx="238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es m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 develope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ow how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ll be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762120" y="30492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2314"/>
                </a:solidFill>
                <a:latin typeface="Gill Sans MT"/>
              </a:rPr>
              <a:t>VA SCAN Focu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esent Offering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1125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ull service website http://vascan.or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1125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1125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sk the Expert” email servic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1125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n–site engagement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1125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nual conference and SANS workshop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5:08:19Z</dcterms:created>
  <dc:creator>wjohnsen</dc:creator>
  <dc:description/>
  <dc:language>en-US</dc:language>
  <cp:lastModifiedBy>Bill Johnsen</cp:lastModifiedBy>
  <dcterms:modified xsi:type="dcterms:W3CDTF">2007-12-04T03:10:19Z</dcterms:modified>
  <cp:revision>19</cp:revision>
  <dc:subject/>
  <dc:title>Resources for Meeting Internet Safety Requirements</dc:title>
</cp:coreProperties>
</file>