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A627-0A2B-4492-A960-30BA56D96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6C4E-83DB-4F77-BF4D-C72DD280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53A9-9944-41C5-AEF5-2B2F2852E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468A-BDAB-4589-82E0-2A613C4AF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6D68-6E91-4FAE-9417-C772C445B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9946-C453-40F7-B198-47B51A8A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5AC6-3A09-4029-91B4-F941DC29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4D27C-FE19-4CC4-ABF1-858E2D5D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2FDA-A2D4-4063-95AB-B6C6529C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2FF3-F7D6-46BF-947E-AD795BBC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B8461-C6EF-491B-84A8-DFD8C125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0A13-226F-4623-824E-803995F9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8337-85BB-4193-8E62-6F56A997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663D-B062-426F-A2DD-3CA3BEC5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05BC-23C7-45D8-AD5F-392B47C0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524B-C599-4BC4-971A-CDB6B6F38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59B99-3B81-4019-A38C-357DC3ADA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7E6F95-3187-40AA-81B5-26198069A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711B40-173F-46B6-8CD8-E8AC29E5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ACB2AA-5A51-41FB-90BC-D2333489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2E6E27-A9D4-4012-ADA6-D99F99CF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291F05-717B-4BD0-9792-0BD7C050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C783-7DD9-46DF-BBDF-710EC2AC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7E830B-D398-440F-9E78-C6392BAA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844884-EB88-49DB-91BD-80F9512D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8A32C2-7DC0-45B0-8BC1-9EDD7C06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19718C-418E-4248-976D-0364B379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EC18CC-3CC4-4001-AF73-43C34409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246E3F-4E1C-43C2-A5C5-6C7E36898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FCFAA0-7DCE-43F5-A3D2-727455944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2FC25-4EA8-4AC9-AE2E-65A224C29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8E03E-5106-4C01-AE94-D2BD5DF0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30D06-48DB-45F3-A25D-1F16C0EC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467B-D096-4C2F-9B8E-4A9778D8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A69F2-457D-45E8-AFEA-0FE9E149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1CFB8-7A5F-4E8C-9402-92B86DF8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9CF76-AE47-4F2D-A2D1-45EE59E1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8EB63-C01D-4671-BCCC-1589C1C2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738CD-1C09-40BF-85C4-D9F2E8CC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DD731-720B-41E5-A8DC-B70FD1AE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6590E-3A81-467D-8F98-34FFCF9C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5EE16-ED1D-4E4B-859A-AA2063365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EA244-2D69-48E6-A97E-3DFA48AD5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5FB765-0C06-4513-9D81-8739F8E17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823D-138F-489A-8872-A9C76762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300455-ECB2-4F40-9C2A-917EEF8D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C61E71-63AF-4036-904D-97C5E6C8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A7C4CF-DDAF-4433-85E4-D3F46963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9C865D-FDB0-4189-8685-D2339FB9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7C443B-E655-428A-AFE3-1A3D1782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FBE16C-8FFD-4B20-9AB7-30A69B21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198202-A902-4104-A9D9-C3B8AC86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C95FA1-CAA0-4F85-BEDA-4593CF5F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2B6BAC-8F92-4A58-A1D6-64833C5D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AD2563-BB68-49B1-A54B-D7662BAE7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C561-9A69-4A4D-9E1B-9A9A6565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659557-6807-466B-9B72-3F3114DAC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06D7FF-4816-4969-8145-97408A782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54BE33-BE9C-4416-A4CB-2978AD87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A01ADA-5843-4E54-9781-FD0AD226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57890B-381C-412E-815C-9481D206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745A32-2B8C-4F19-93D0-58D42FF6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35939F-5415-4BCC-A82F-59102D03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CD52F0-AD1A-4DA5-9739-15C37CB1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EE2A81-8A6F-4AD4-B2D9-07F48354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0D1550-C8F8-4C0B-92EC-0CE25C8C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2D66-336C-402C-AFA9-48390FAD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EBA0E4-8552-455F-8E33-693E20A0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3ED9DB-F4AD-48E5-9A02-9C82D0FF6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72F474-424F-451F-8D41-79ED000EE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5870A5-2A64-46B1-996B-90E77B026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14D80D-607A-4B5D-8427-04D66EC5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0F63B0-D5A1-4E2E-B10E-3F014EBD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D9197E-CFE9-4270-BF6D-9EBCF56D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70EB21-02B7-4872-BD16-C3128B02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B885CD-ABA2-46A9-AC85-F332F8DD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8B8168-DBEB-4CAC-837D-48B9E408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ECC6-E144-4BBB-B61E-FD99FEFA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2790FE-FE51-4773-BACD-51B9EDC0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3F4FF4-EA78-45D5-95F6-3E005A4E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CC6635-8096-4A4B-8FFD-CCED9EDD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EBDA9B-3023-47E7-8003-9FBC892AE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1EC7B0-9B7B-4EE0-8B4D-E4290F4D3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220D-D3F7-4C1C-871E-0E6706E8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DACC-EAD9-4ABA-8FF4-92646686D8D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3F83-63C6-4D34-8A6C-86C947C9F44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FA47-2E85-4C20-99A9-F78A9F03E8A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E352-91FA-4641-B49F-4997194DE7B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5668-1BEF-42ED-80AA-7309CB9B502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5B3B-74AC-4160-BE02-591DAE2C5A2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1B08-E262-4BBA-9830-567CCAF6984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18284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FIGURING OUT FILTERING: CAN WE PROTECT AND SERVE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Ramesh Kapoor – Chief Information Office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Bill Johnsen – Director, Instructional Technolog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Virginia Beach City Public School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ECURITY RFP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INTERNET CONTENT FILTERING REQUIREMENTS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100000"/>
              </a:lnSpc>
              <a:spcBef>
                <a:spcPts val="28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75f6d"/>
                </a:solidFill>
                <a:latin typeface="Comic Sans MS"/>
              </a:rPr>
              <a:t>Filter all traffic (HTTP, FTP, SMTP, etc.)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28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75f6d"/>
                </a:solidFill>
                <a:latin typeface="Comic Sans MS"/>
              </a:rPr>
              <a:t>Filter non-standard ports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28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75f6d"/>
                </a:solidFill>
                <a:latin typeface="Comic Sans MS"/>
              </a:rPr>
              <a:t>Block HTTP exploits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28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75f6d"/>
                </a:solidFill>
                <a:latin typeface="Comic Sans MS"/>
              </a:rPr>
              <a:t>Block spyware, keyloggers, adware, malware, etc.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28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75f6d"/>
                </a:solidFill>
                <a:latin typeface="Comic Sans MS"/>
              </a:rPr>
              <a:t>Block external proxies and other anonymizers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28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75f6d"/>
                </a:solidFill>
                <a:latin typeface="Comic Sans MS"/>
              </a:rPr>
              <a:t>Scan FTP/HTTP downloads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28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75f6d"/>
                </a:solidFill>
                <a:latin typeface="Comic Sans MS"/>
              </a:rPr>
              <a:t>Scan Active X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28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75f6d"/>
                </a:solidFill>
                <a:latin typeface="Comic Sans MS"/>
              </a:rPr>
              <a:t>Intrusion prevention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28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75f6d"/>
                </a:solidFill>
                <a:latin typeface="Comic Sans MS"/>
              </a:rPr>
              <a:t>Bandwidth shaping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28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75f6d"/>
                </a:solidFill>
                <a:latin typeface="Comic Sans MS"/>
              </a:rPr>
              <a:t>URL filtering (based on list)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28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75f6d"/>
                </a:solidFill>
                <a:latin typeface="Comic Sans MS"/>
              </a:rPr>
              <a:t>Dynamic content filtering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OLUTION SELECTE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tentKeep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plemented August, 200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ovided for different levels of filtering for different Active Directory group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RL filter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locks uncategorized sit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ynamic content inspection and filter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ile typ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Key word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etects new proxy servers/tunneli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MPLEMENTATION LESSON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endor classification of si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hat appeared appropriately blocked was  too restrictiv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ifficulty with new “social” sit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alized centrally how much Internet was used for authentic instru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reamlined the request for unblocking proces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udit sites that are unblocked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ed to carefully consider amount of filtering for staff productivit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HE BALANC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0" name="Picture 4" descr="C:\Documents and Settings\wjohnsen\Local Settings\Temporary Internet Files\Content.IE5\96B78HBN\MCj02955660000[1].wmf"/>
          <p:cNvPicPr/>
          <p:nvPr/>
        </p:nvPicPr>
        <p:blipFill>
          <a:blip r:embed="rId1"/>
          <a:stretch/>
        </p:blipFill>
        <p:spPr>
          <a:xfrm>
            <a:off x="2362320" y="1905120"/>
            <a:ext cx="4647960" cy="3601800"/>
          </a:xfrm>
          <a:prstGeom prst="rect">
            <a:avLst/>
          </a:prstGeom>
          <a:ln w="0">
            <a:noFill/>
          </a:ln>
        </p:spPr>
      </p:pic>
      <p:pic>
        <p:nvPicPr>
          <p:cNvPr id="361" name="Rectangle 6" descr=""/>
          <p:cNvPicPr/>
          <p:nvPr/>
        </p:nvPicPr>
        <p:blipFill>
          <a:blip r:embed="rId2"/>
          <a:stretch/>
        </p:blipFill>
        <p:spPr>
          <a:xfrm>
            <a:off x="4479840" y="755640"/>
            <a:ext cx="4498920" cy="2481120"/>
          </a:xfrm>
          <a:prstGeom prst="rect">
            <a:avLst/>
          </a:prstGeom>
          <a:ln w="0">
            <a:noFill/>
          </a:ln>
        </p:spPr>
      </p:pic>
      <p:pic>
        <p:nvPicPr>
          <p:cNvPr id="362" name="Rectangle 7" descr=""/>
          <p:cNvPicPr/>
          <p:nvPr/>
        </p:nvPicPr>
        <p:blipFill>
          <a:blip r:embed="rId3"/>
          <a:stretch/>
        </p:blipFill>
        <p:spPr>
          <a:xfrm>
            <a:off x="463680" y="1133640"/>
            <a:ext cx="358452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HE BALANC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4" name="Picture 5" descr="C:\Documents and Settings\wjohnsen\Local Settings\Temporary Internet Files\Content.IE5\INDW245D\MCj02908480000[1].wmf"/>
          <p:cNvPicPr/>
          <p:nvPr/>
        </p:nvPicPr>
        <p:blipFill>
          <a:blip r:embed="rId1"/>
          <a:stretch/>
        </p:blipFill>
        <p:spPr>
          <a:xfrm>
            <a:off x="2666880" y="2666880"/>
            <a:ext cx="2584440" cy="2854440"/>
          </a:xfrm>
          <a:prstGeom prst="rect">
            <a:avLst/>
          </a:prstGeom>
          <a:ln w="0">
            <a:noFill/>
          </a:ln>
        </p:spPr>
      </p:pic>
      <p:pic>
        <p:nvPicPr>
          <p:cNvPr id="365" name="Rectangle 7" descr=""/>
          <p:cNvPicPr/>
          <p:nvPr/>
        </p:nvPicPr>
        <p:blipFill>
          <a:blip r:embed="rId2"/>
          <a:stretch/>
        </p:blipFill>
        <p:spPr>
          <a:xfrm>
            <a:off x="378000" y="987480"/>
            <a:ext cx="4485960" cy="2511360"/>
          </a:xfrm>
          <a:prstGeom prst="rect">
            <a:avLst/>
          </a:prstGeom>
          <a:ln w="0">
            <a:noFill/>
          </a:ln>
        </p:spPr>
      </p:pic>
      <p:pic>
        <p:nvPicPr>
          <p:cNvPr id="366" name="Rectangle 8" descr=""/>
          <p:cNvPicPr/>
          <p:nvPr/>
        </p:nvPicPr>
        <p:blipFill>
          <a:blip r:embed="rId3"/>
          <a:stretch/>
        </p:blipFill>
        <p:spPr>
          <a:xfrm>
            <a:off x="5151600" y="1341360"/>
            <a:ext cx="1908000" cy="1047960"/>
          </a:xfrm>
          <a:prstGeom prst="rect">
            <a:avLst/>
          </a:prstGeom>
          <a:ln w="0">
            <a:noFill/>
          </a:ln>
        </p:spPr>
      </p:pic>
      <p:sp>
        <p:nvSpPr>
          <p:cNvPr id="367" name="TextBox 14"/>
          <p:cNvSpPr/>
          <p:nvPr/>
        </p:nvSpPr>
        <p:spPr>
          <a:xfrm rot="844200">
            <a:off x="5681880" y="2630880"/>
            <a:ext cx="2655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illenn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entury Lear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Netwo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k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cre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on, and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16:37:31Z</dcterms:created>
  <dc:creator>wjohnsen</dc:creator>
  <dc:description/>
  <dc:language>en-US</dc:language>
  <cp:lastModifiedBy>wjohnsen</cp:lastModifiedBy>
  <dcterms:modified xsi:type="dcterms:W3CDTF">2007-11-28T21:02:33Z</dcterms:modified>
  <cp:revision>11</cp:revision>
  <dc:subject/>
  <dc:title>Figuring out filtering: can we protect and serve?</dc:title>
</cp:coreProperties>
</file>