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227-26C6-4BC7-A7A1-A240A4B3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002-9941-45B0-890D-80E7729E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D84-09BC-413A-8598-3E0F82C1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2D5-58F5-4216-8CB7-DC6FE749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2E5-E740-4C54-A880-5F54B1E3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259-183A-4220-92E0-1DDB0EE6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B2A-C9FC-49E9-9D9A-326500B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4CEE-BA4B-45A9-AAC4-1D16E97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9BC-EF51-4012-A9FE-8BDE94CB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E218-5EBB-4E54-A2C3-E3D730C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0A8D-76F0-4FEE-A40C-943AE2D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CC8-201A-4246-AC64-F58EDFE9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1EDF-C546-4D9C-A590-92BF957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67A2-20AD-42B2-A66C-A4FABDE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234D-93CA-416E-B575-7A9A243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F61B-FB87-4886-90A2-14BB932C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E552-4664-488F-B56E-893C4D7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EAD6E-C174-4372-AC98-84B83041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27ED0-0749-4ED7-AB19-C28A7CF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DD84B-9285-450B-AFEE-78E24A5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5BA93-0182-4C06-B583-8B0C499A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62631-0332-4A13-AF63-DA2F56A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A56-2900-47D7-B310-8771262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6855E-E1C8-4BD9-A161-F9BE1A2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79B86-97A7-4F82-9B1D-6416EAD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93475-FB26-4F5B-8698-FEEC40C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66264-49C7-4162-B9BB-B37AAFCE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1CC54-2962-4281-9296-F1D28A8B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CEA32-8786-43C6-AB6D-C9357212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D6466-355A-49A5-8CBB-B33F79F5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01D2-C6F7-4D80-B3E6-F64E8E4A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2E0F-CEE4-4D9B-BC17-46D65FFA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E679-492D-47B5-B11C-1FDF8658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7C0-06CF-4C18-A6AD-F69FFAF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02ED-6A04-4CC7-8B0F-363CBD62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718C-D411-4532-AFB2-C3AB107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4FF1-F5F3-47AD-A3AA-17F3A45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5D75-B8A3-442D-BCD7-E66D173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1D06-7911-4D34-8446-D9905CF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68F2-5383-4E3C-B7BB-A819DDA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61CC-9E39-484E-8587-3C4EF81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E6959-0409-4F4B-89B9-97D25AA7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DA1A-C34A-4FFD-8B1D-41546CFC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BC205-459D-4A7F-9C9B-B0DB0FF9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82D-3C1F-4E90-A5D1-591DDD33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524A2-37CF-48FE-B3F6-8189B91B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81D6B-60CA-48EC-A091-F823C88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04648-0BD4-46EB-BBD9-042B81B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112B0-12FF-4F08-ABB1-E1428A8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0B034-3066-42F9-B902-FC7E63D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63278-BAAC-4D23-84E4-8EB2F63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9E033-4A57-4486-938C-FF37016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D30E1-2C74-489D-A40A-3F3C7D5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DAC6B-C7C7-4999-A358-1A2D3BE9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0B123-8C1B-4999-A27E-5029F56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57A-93C6-406A-8521-BC7CBD09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98BB5-3D0B-4091-9D86-F186DFB9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54777-3D8F-4417-BB32-B135D961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26F8F-0DED-499C-B9C3-12E8D22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72A69-CCB1-4128-9F9E-5257438A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B356A-39B0-450A-9259-5C20F2F5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09377-F377-4A60-A5CC-FDD8F5DB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0E40E-A52E-4AE2-A6C7-62F0D1B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FFECA-FB0E-43CE-A289-08A2F6C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51370-8118-45F5-8E6C-B2C4512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F0BA3-4E4A-43B6-9C85-E29D3CD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DBF-560B-4637-B723-92EAABA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5163C-C552-4039-BBC3-381104B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96535-7FD0-44EF-9646-EDAEBBC6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45F6F-869C-4CFE-A24C-07E0F358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14A62-A3C4-47A1-B383-6A1E2FE3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A68E1-12CD-470A-9F73-CD2E7C88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BF973-D1F7-4457-BBA8-99783C9B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94F1D-32C8-4EBD-BEB9-47379C45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F0362-FA1B-4E67-81C9-6EAA7C0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6FA04-C5C7-463F-8311-7F44E22A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C474E-3D7F-45F0-8688-CA17A84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234-6539-4012-805D-233FC196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662FD-6EA9-4EF6-A355-485B719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C2459-0390-4573-89E7-9DF3913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A7C66-2F51-4375-819D-C8CB9AE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0F689-5576-4E8E-8ECC-2A657495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81405-0EF4-4660-8C57-F6A53B6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7B9-E3FC-47FC-9C49-6D4F135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C8B-AB60-4312-9A8D-96217E806DB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CC0-2DC3-44CF-BBF1-29D71099E4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4035-2EA4-45A6-ABA7-CDC17D67A3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BE0-96B7-45B1-A681-902F403E60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8B8-1C1F-4E57-8B8D-895D8B22FE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6B5-E8B9-4FFD-9C94-A7975B22B5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BF6-16FF-4D78-B3BA-70D5F162F5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28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GURING OUT FILTERING: CAN WE PROTECT AND SER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amesh Kapoor – Chief Information Offi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ill Johnsen – Director, Instructional Technolog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Virginia Beach City Public Schoo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ECURITY RFP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TERNET CONTENT FILTERING REQUIREME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Filter all traffic (HTTP, FTP, SMTP, etc.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Filter non-standard port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HTTP exploit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spyware, keyloggers, adware, malware, etc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lock external proxies and other anonymizer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Scan FTP/HTTP download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Scan Active X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Intrusion prevention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Bandwidth shaping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URL filtering (based on list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28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75f6d"/>
                </a:solidFill>
                <a:latin typeface="Comic Sans MS"/>
              </a:rPr>
              <a:t>Dynamic content filtering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SELECT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Kee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emented August,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for different levels of filtering for different Active Directory grou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RL filt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s uncategorized si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ynamic content inspection and filt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typ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wor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tects new proxy servers/tunne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PLEMENTATION LESS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ndor classification of si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at appeared appropriately blocked was  too restri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iculty with new “social” si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lized centrally how much Internet was used for authentic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eamlined the request for unblock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udit sites that are unblock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to carefully consider amount of filtering for staff produc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BAL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C:\Documents and Settings\wjohnsen\Local Settings\Temporary Internet Files\Content.IE5\96B78HBN\MCj0295566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647960" cy="360180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6" descr=""/>
          <p:cNvPicPr/>
          <p:nvPr/>
        </p:nvPicPr>
        <p:blipFill>
          <a:blip r:embed="rId2"/>
          <a:stretch/>
        </p:blipFill>
        <p:spPr>
          <a:xfrm>
            <a:off x="4479840" y="755640"/>
            <a:ext cx="4498920" cy="248112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7" descr=""/>
          <p:cNvPicPr/>
          <p:nvPr/>
        </p:nvPicPr>
        <p:blipFill>
          <a:blip r:embed="rId3"/>
          <a:stretch/>
        </p:blipFill>
        <p:spPr>
          <a:xfrm>
            <a:off x="463680" y="1133640"/>
            <a:ext cx="35845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BAL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5" descr="C:\Documents and Settings\wjohnsen\Local Settings\Temporary Internet Files\Content.IE5\INDW245D\MCj02908480000[1].wmf"/>
          <p:cNvPicPr/>
          <p:nvPr/>
        </p:nvPicPr>
        <p:blipFill>
          <a:blip r:embed="rId1"/>
          <a:stretch/>
        </p:blipFill>
        <p:spPr>
          <a:xfrm>
            <a:off x="2666880" y="2666880"/>
            <a:ext cx="2584440" cy="285444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7" descr=""/>
          <p:cNvPicPr/>
          <p:nvPr/>
        </p:nvPicPr>
        <p:blipFill>
          <a:blip r:embed="rId2"/>
          <a:stretch/>
        </p:blipFill>
        <p:spPr>
          <a:xfrm>
            <a:off x="378000" y="987480"/>
            <a:ext cx="4485960" cy="2511360"/>
          </a:xfrm>
          <a:prstGeom prst="rect">
            <a:avLst/>
          </a:prstGeom>
          <a:ln w="0">
            <a:noFill/>
          </a:ln>
        </p:spPr>
      </p:pic>
      <p:pic>
        <p:nvPicPr>
          <p:cNvPr id="366" name="Rectangle 8" descr=""/>
          <p:cNvPicPr/>
          <p:nvPr/>
        </p:nvPicPr>
        <p:blipFill>
          <a:blip r:embed="rId3"/>
          <a:stretch/>
        </p:blipFill>
        <p:spPr>
          <a:xfrm>
            <a:off x="5151600" y="1341360"/>
            <a:ext cx="1908000" cy="1047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4"/>
          <p:cNvSpPr/>
          <p:nvPr/>
        </p:nvSpPr>
        <p:spPr>
          <a:xfrm rot="844200">
            <a:off x="5681880" y="2630880"/>
            <a:ext cx="2655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llenn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, an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7:31Z</dcterms:created>
  <dc:creator>wjohnsen</dc:creator>
  <dc:description/>
  <dc:language>en-US</dc:language>
  <cp:lastModifiedBy>wjohnsen</cp:lastModifiedBy>
  <dcterms:modified xsi:type="dcterms:W3CDTF">2007-11-28T21:02:33Z</dcterms:modified>
  <cp:revision>11</cp:revision>
  <dc:subject/>
  <dc:title>Figuring out filtering: can we protect and serve?</dc:title>
</cp:coreProperties>
</file>